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9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FC0D-E765-4C71-9246-ED76E39DC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84DF-B76A-4485-BFF1-91249E4994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B64-3B86-4D39-85D5-E5929129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A5A-9487-4069-9FDF-BDDA3F8F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4D6-F334-4988-82C3-4CB2CF01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E93-4E4D-4525-A95F-9D445F05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E611-AEDA-4BD6-BC39-84A6FA04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EEA1-BFED-4B44-9E6B-C06C99E5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EC43-471A-42DF-960D-7114031F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A221-415A-4C80-9B13-C2CECB37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413B-427D-4DFB-A658-650DBA3A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B812-26AE-42FC-8300-7D917C4B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C265-7ED9-4A07-BA35-E2C75F87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FB3-433C-46E6-978C-E5E57860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E130-68FF-40D0-AD8B-C288E659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1F6E-B966-4D69-8BC4-027867E4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143F-6EE2-4D75-8B8E-27A7D050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5204-4996-4750-9A89-BE05BF70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35BC-513A-4F36-B03C-B35CD0F1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B9C-75CD-41DB-93A4-15241C65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E1F-3F2C-471D-8ACF-6E42ACFB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648-5732-4708-AD1E-09B017AC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737-4BC2-4890-A185-C5C9F229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089-B03E-4DEF-A1ED-747E05BA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018-4EC3-46B5-B314-8727EB94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B7E-C335-4DDF-9271-857B4A23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934F-92F4-4722-B0CD-AC6326AFFE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8727-1D7B-4CAE-A4AA-D8D046159F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91774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o are some of the Not-So-Good Quarterbacks?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3733920" cy="4667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733920" y="1676520"/>
            <a:ext cx="54100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memecrunch.com/meme/DMT9/rgknee/image.jpg?w=400&amp;c=1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www.gannett-cdn.com/-mm-/acfa3c317ca5932d55c748e271b3e60076eecfa1/c=0-84-1932-1539&amp;r=x404&amp;c=534x401/local/-/media/USATODAY/USATODAY/2014/05/08/1399604407000-USP-NFL-2014-NFL-Draft-025.jpg"/>
          <p:cNvPicPr/>
          <p:nvPr/>
        </p:nvPicPr>
        <p:blipFill>
          <a:blip r:embed="rId1"/>
          <a:stretch/>
        </p:blipFill>
        <p:spPr>
          <a:xfrm>
            <a:off x="228600" y="457200"/>
            <a:ext cx="365292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img.bleacherreport.net/img/slides/photos/003/635/923/b76c9b7d111e140b5c16c8a850c84724_crop_north.png?w=630&amp;h=420&amp;q=75"/>
          <p:cNvPicPr/>
          <p:nvPr/>
        </p:nvPicPr>
        <p:blipFill>
          <a:blip r:embed="rId2"/>
          <a:stretch/>
        </p:blipFill>
        <p:spPr>
          <a:xfrm>
            <a:off x="3352680" y="2666880"/>
            <a:ext cx="520560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85800" y="0"/>
            <a:ext cx="75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img.gawkerassets.com/img/192w85x9nl0ogjpg/ku-xlarge.jpg"/>
          <p:cNvPicPr/>
          <p:nvPr/>
        </p:nvPicPr>
        <p:blipFill>
          <a:blip r:embed="rId1"/>
          <a:stretch/>
        </p:blipFill>
        <p:spPr>
          <a:xfrm>
            <a:off x="380880" y="83808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Rhythm and Cadence:</a:t>
            </a:r>
            <a:br>
              <a:rPr sz="4800"/>
            </a:b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he Digital High-Tech-Definition Scoreboard of War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Succeed in American Civics Without Really Trying (Very Mu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hod Behind the Madnes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al-time scoreboard of how you are doing in Mr. Staten’s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s confusion about where Honors and Demerits come fr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ll good QB’s, Mr. Staten has a rhythm and a cadence that 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currently going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about to hap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the best quarterback in the National Football Leag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akes them the best quarterbac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don’t know, or don’t watch football, that’s fine…just play along. :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sdemeanors (Demerits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N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ings that disrupt the cla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ing seat without expressed per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ly calling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rd sounds that are not human, nor of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urbing the peace (example: profan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impoliteness or inciv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ing N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ing other classwork in my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m and/or eating in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wing things: Paper airplanes… objects… things… peopl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hythm and Cad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r. Staten has certa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tchphr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 uses when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JOR INFRAC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bout to be addres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ep outsid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s: “Go outside, wait, chill out for a few minutes because you need to calm down and pull yourself together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ting in class? Just go outsi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 am about to call for people I can trus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the BIG one because it means someone needs to be escorted out of the room for committ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eas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reserved only for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J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c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al or physical hara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treatment of women (and it goes both ways, lad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l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ing classroom without per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rection: open, public, flagrant def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appropriate use of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bal and physical def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eaming like a lunatic/deliberate insa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eeping in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hting/Sabo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y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s of Terrorism/Threats of terror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room Proced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4176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and outside my room in a silent, single-file, professional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riot, yell, or scream in the hallway outside my 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fall into or destroy my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nter my room silently, professionally and go straight to s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it patiently until I invite you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simply bust into my room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DO NOT OWN THIS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ou are a g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ng a pass if you are 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e on Rhythm and Cad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Staten will, quite often, say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rack (whoever is speaking)”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eans a minimum of two eyes must be directed at Mr. Staten or whoever he instr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write down something Mr. Staten ind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hythm and Cad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“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lease SLANT”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t up: correct posture is proven to make you ta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an forward: in your chair, hands politely on your desk, showing me that you’re a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k and answer questions: If you don’t understand, don’t be afraid to ask (reasonable) questions…and if you know the answer, raise your hand and say it (when called 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d for understanding: Show me that you’re not d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ck: we literally just went over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Continental Col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at a level that is comfortable yet challenging t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vel is for students who may be struggling with a concept or need additional hel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TE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vel is for students who are comfortable working on their own. The average sixth grader should be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BLUE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vel is for students who are looking for a higher challenge. The work at this level is usually at an 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e leve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Continental Col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ISMA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vel is the most challenging or the most independent. Heisman level activities involve independent writing or some form of creative expression, presentation, or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level is designed to challenge your thinking in different ways. Blue and Heisman level activities involve higher-order thinking, analysis and synthesis of ide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h Rules Everything Around 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n Stacks are a small reward for those who do the right th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ting Politely and Professionally (SLA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ing one of the first 3-5 senators ready after a count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ing (which means positively contributing to cla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ing a fellow senator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sing complete sentences with the proper, Queen’s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ten Stack Salar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cking Chairs at the End of the Day: $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ning/Organizing Desks at the End of the Day: $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wiffering/Vacuuming at the End of the Day: $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ing Mr. Staten’s Office Hours (Stay the Full ½ Hour): $2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guished Professionalism in Classroom, Hallway, or Office Hours: $20.00-$10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st Score on Quiz/Test: $5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d Batting Average: $10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-Time Job (Come to Office Hours 3x in a Week): $25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-Time Job (Come to Office Hours 4x in a Week): $50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n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ect Score on the United States Constitution Final Exam: $2500.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ect Score on a Unit Test or Exam: $1000.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r. Staten reserves the right to pay other bonuses and salaries at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2057400" y="-1440"/>
            <a:ext cx="50212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ten Stack Priz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m with a View (Extended Lunch in Mr. Staten’s Room): $5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ior Lecturer (Help Mr. Staten Teach a Class): $10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-School Special (History Movie during Office Hours): $50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nthouse (Mr. Staten Buys Lunch): $100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oney in the Bank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No…not this one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Money in the Bank Briefcas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886200" cy="300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Money in the Bank Briefcas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o reward tho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go so far above and beyond the call of dut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Staten Stacks simply are not enough to show my appreciation for the good work senators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2103480" cy="2667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1981080" y="2286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3"/>
          <a:stretch/>
        </p:blipFill>
        <p:spPr>
          <a:xfrm>
            <a:off x="3581280" y="4724280"/>
            <a:ext cx="2362320" cy="1846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"/>
          <p:cNvPicPr/>
          <p:nvPr/>
        </p:nvPicPr>
        <p:blipFill>
          <a:blip r:embed="rId4"/>
          <a:stretch/>
        </p:blipFill>
        <p:spPr>
          <a:xfrm>
            <a:off x="1828800" y="1905120"/>
            <a:ext cx="2082960" cy="2733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5"/>
          <a:stretch/>
        </p:blipFill>
        <p:spPr>
          <a:xfrm>
            <a:off x="0" y="441972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"/>
          <p:cNvPicPr/>
          <p:nvPr/>
        </p:nvPicPr>
        <p:blipFill>
          <a:blip r:embed="rId6"/>
          <a:stretch/>
        </p:blipFill>
        <p:spPr>
          <a:xfrm>
            <a:off x="6324480" y="457200"/>
            <a:ext cx="2646360" cy="1760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"/>
          <p:cNvPicPr/>
          <p:nvPr/>
        </p:nvPicPr>
        <p:blipFill>
          <a:blip r:embed="rId7"/>
          <a:stretch/>
        </p:blipFill>
        <p:spPr>
          <a:xfrm>
            <a:off x="4038480" y="2743200"/>
            <a:ext cx="2867040" cy="1886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8"/>
          <a:stretch/>
        </p:blipFill>
        <p:spPr>
          <a:xfrm>
            <a:off x="6477120" y="3124080"/>
            <a:ext cx="2381040" cy="353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"/>
          <p:cNvPicPr/>
          <p:nvPr/>
        </p:nvPicPr>
        <p:blipFill>
          <a:blip r:embed="rId9"/>
          <a:stretch/>
        </p:blipFill>
        <p:spPr>
          <a:xfrm>
            <a:off x="4419720" y="228600"/>
            <a:ext cx="1752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static.comicvine.com/uploads/original/11111/111111122/4368749-8150853380-tombr.png"/>
          <p:cNvPicPr/>
          <p:nvPr/>
        </p:nvPicPr>
        <p:blipFill>
          <a:blip r:embed="rId1"/>
          <a:stretch/>
        </p:blipFill>
        <p:spPr>
          <a:xfrm>
            <a:off x="27000" y="990720"/>
            <a:ext cx="8880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www1.pictures.zimbio.com/gi/Russell+Wilson+San+Francisco+49ers+v+Seattle+GGdX0nXypQ7l.jpg"/>
          <p:cNvPicPr/>
          <p:nvPr/>
        </p:nvPicPr>
        <p:blipFill>
          <a:blip r:embed="rId1"/>
          <a:stretch/>
        </p:blipFill>
        <p:spPr>
          <a:xfrm>
            <a:off x="2209680" y="68400"/>
            <a:ext cx="457200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057400" y="31680"/>
            <a:ext cx="505296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truluvsports.com/wp-content/uploads/2014/12/Cam-Newton.jpg"/>
          <p:cNvPicPr/>
          <p:nvPr/>
        </p:nvPicPr>
        <p:blipFill>
          <a:blip r:embed="rId1"/>
          <a:stretch/>
        </p:blipFill>
        <p:spPr>
          <a:xfrm>
            <a:off x="304920" y="762120"/>
            <a:ext cx="860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-3240" y="380880"/>
            <a:ext cx="91472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990720" y="42840"/>
            <a:ext cx="706428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3:24:58Z</dcterms:created>
  <dc:creator>user</dc:creator>
  <dc:description/>
  <dc:language>en-US</dc:language>
  <cp:lastModifiedBy>Lawrence Staten</cp:lastModifiedBy>
  <dcterms:modified xsi:type="dcterms:W3CDTF">2016-08-25T19:34:19Z</dcterms:modified>
  <cp:revision>91</cp:revision>
  <dc:subject/>
  <dc:title>Rhythm and Cadence</dc:title>
</cp:coreProperties>
</file>